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DCE-A377-44BB-AD19-E208425E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98A-501F-41D7-8C82-317CE9E3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071-CF82-4295-85E7-29ABBF6F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395-EC99-49BD-AD95-08988A12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683-A0B5-4065-B7BE-62F1909E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B3F-3A8F-4E04-9D84-79A3860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886-5F1E-40CB-B405-D727135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5E5-41CB-420D-B41E-5107897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AB5-49C1-43A1-ADC1-E0E05774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4C7-B078-4A27-8D88-AF58666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F49-EC24-4A6F-B3CC-C648EAA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191-AA10-42C9-A6FC-69082A1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3EAA-BE1B-461A-A0D5-0B788F51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247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-67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70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75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4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1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70" descr="Maxwell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photo5" descr="Mary J. Blige "/>
          <p:cNvPicPr/>
          <p:nvPr/>
        </p:nvPicPr>
        <p:blipFill>
          <a:blip r:embed="rId2"/>
          <a:stretch/>
        </p:blipFill>
        <p:spPr>
          <a:xfrm>
            <a:off x="4572000" y="312408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1" name="newImage-1" descr=""/>
          <p:cNvPicPr/>
          <p:nvPr/>
        </p:nvPicPr>
        <p:blipFill>
          <a:blip r:embed="rId3"/>
          <a:stretch/>
        </p:blipFill>
        <p:spPr>
          <a:xfrm>
            <a:off x="0" y="3962520"/>
            <a:ext cx="377208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candykisseshitops1" descr="candykisseshitops1.jpg"/>
          <p:cNvPicPr/>
          <p:nvPr/>
        </p:nvPicPr>
        <p:blipFill>
          <a:blip r:embed="rId4"/>
          <a:stretch/>
        </p:blipFill>
        <p:spPr>
          <a:xfrm>
            <a:off x="0" y="0"/>
            <a:ext cx="4476600" cy="372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1247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67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0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75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4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1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az_print_img" descr="product image"/>
          <p:cNvPicPr/>
          <p:nvPr/>
        </p:nvPicPr>
        <p:blipFill>
          <a:blip r:embed="rId5"/>
          <a:stretch/>
        </p:blipFill>
        <p:spPr>
          <a:xfrm>
            <a:off x="4267080" y="0"/>
            <a:ext cx="2743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6:06:47Z</dcterms:created>
  <dc:creator>809277</dc:creator>
  <dc:description/>
  <dc:language>en-US</dc:language>
  <cp:lastModifiedBy>809277</cp:lastModifiedBy>
  <dcterms:modified xsi:type="dcterms:W3CDTF">2008-09-04T16:11:56Z</dcterms:modified>
  <cp:revision>1</cp:revision>
  <dc:subject/>
  <dc:title>Slide 1</dc:title>
</cp:coreProperties>
</file>